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F23-2BE3-4496-ACBE-C0ABD322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15A-8DAE-4713-8655-8F9D8F52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6E1-D033-487F-AEF8-FD92E428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F8D-9C97-4AED-B36D-B899B9A6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10C-1AB4-4202-A554-35CA67AD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FC7-F2E9-44B6-9BA6-0A59B4AF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FC5-22A6-47C2-B54C-2EA8CF2D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B6D-63C5-43DE-A792-9C0C286D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F28-603C-4905-85E7-250C1133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30D-D0E1-4090-A293-D795F92C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2DA-A3A3-4702-B9CB-7228DF3A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F93-7E86-42B7-AD85-07BA829A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22F5-0D94-4A6A-88FE-2519038A3F5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omponentes de la Cél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idrat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íp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moléculas no polares son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nsolubles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en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33520" y="1904760"/>
            <a:ext cx="30456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20" y="1905120"/>
            <a:ext cx="30456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066680" y="19047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95280" y="190512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600200" y="19047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28800" y="190512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133720" y="1904760"/>
            <a:ext cx="30456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62320" y="1905120"/>
            <a:ext cx="30456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666880" y="19047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95480" y="190512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200400" y="19047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9000" y="190512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733920" y="1904760"/>
            <a:ext cx="30456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1905120"/>
            <a:ext cx="30456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267080" y="19047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01680" y="1447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30040" y="198108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572000" y="17524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91560" y="198108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2666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6600" y="286056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drofóbico o ap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2666880"/>
            <a:ext cx="1066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57240" y="293688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beza p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00600" y="3733920"/>
            <a:ext cx="685800" cy="685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" y="403848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54100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9072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3000" y="54100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5410080"/>
            <a:ext cx="30456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54100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57400" y="54100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62320" y="5410080"/>
            <a:ext cx="30456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1460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54100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1952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71800" y="54100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10560" y="5832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24280" y="50292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54100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05520" y="5715000"/>
            <a:ext cx="30456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19720" y="5105520"/>
            <a:ext cx="304560" cy="304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7080" y="5334120"/>
            <a:ext cx="304920" cy="304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56386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58672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00600" y="58672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769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4832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5627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724280" y="57146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952880" y="54864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5028840" y="56386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4876560" y="56383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22480" y="55278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ic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nteracciones no covalentes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son importantes en las cél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2286000"/>
            <a:ext cx="990720" cy="99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14600" y="25909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4120" y="2286000"/>
            <a:ext cx="990360" cy="9907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24080" y="2895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6560" y="251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92000" y="2666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639760" y="2514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172200" y="18284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31240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002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167652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33520" y="32767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16040" y="43783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00200" y="5105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76520" y="60199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41911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5105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20960" y="411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20600" y="4876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97640" y="5791320"/>
            <a:ext cx="4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840" y="41148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   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488200" y="58672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   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06560" y="437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883120" y="6130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16240" y="4302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16240" y="437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97880" y="396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169120" y="414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169120" y="422604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124080" y="487656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08240" y="522288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773480" y="4876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8077320" y="48765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077320" y="518148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429000" y="5790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52680" y="617220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429000" y="586728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825720" y="407340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25720" y="44546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96360" y="44546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840" y="48769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   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06560" y="51404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96360" y="52164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49960" y="582624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5349960" y="628308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411520" y="396252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  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07160" y="422604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273640" y="39211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73640" y="437796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87840" y="487692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  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883120" y="514044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49960" y="48355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349960" y="529236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60958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74560" y="5867280"/>
            <a:ext cx="4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8305920" y="586728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62485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8305920" y="5943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840" y="57913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   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06560" y="60548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96360" y="6130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nteracciones no covalentes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son importantes en las cél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3200" y="225108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acciones electrost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2040" y="3470400"/>
            <a:ext cx="36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acciones hidrofób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840" y="4689360"/>
            <a:ext cx="36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rzas de Van der Wa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67080" y="2362320"/>
            <a:ext cx="381240" cy="380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34120" y="2362320"/>
            <a:ext cx="380880" cy="380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81680" y="2362320"/>
            <a:ext cx="381240" cy="380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458200" y="2362320"/>
            <a:ext cx="380880" cy="380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238880" y="2438280"/>
            <a:ext cx="1143000" cy="228600"/>
          </a:xfrm>
          <a:prstGeom prst="leftRightArrow">
            <a:avLst>
              <a:gd name="adj1" fmla="val 50000"/>
              <a:gd name="adj2" fmla="val 995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48320" y="24382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029200" y="2438280"/>
            <a:ext cx="304920" cy="15264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45928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6852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908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876920" y="3429000"/>
            <a:ext cx="38088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95680" y="3276720"/>
            <a:ext cx="1219320" cy="685800"/>
          </a:xfrm>
          <a:prstGeom prst="hexagon">
            <a:avLst>
              <a:gd name="adj" fmla="val 44449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57800" y="3581280"/>
            <a:ext cx="380880" cy="3812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3429000"/>
            <a:ext cx="1218960" cy="685800"/>
          </a:xfrm>
          <a:prstGeom prst="hexagon">
            <a:avLst>
              <a:gd name="adj" fmla="val 44436"/>
              <a:gd name="vf" fmla="val 115470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52680" y="5486400"/>
            <a:ext cx="9907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5486400"/>
            <a:ext cx="99036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07480" y="5791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93280" y="5791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24280" y="6019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1240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l agua es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nucleofí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600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0128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5480" y="2819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609480" y="320004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95280" y="320040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80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193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3116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800" y="37339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       O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43116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9880" y="34290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349080" y="3431160"/>
            <a:ext cx="236160" cy="37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3425040" y="3431160"/>
            <a:ext cx="236520" cy="376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65760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972160" y="25909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01440" y="3962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00200" y="2971800"/>
            <a:ext cx="1752480" cy="2286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72640" y="2209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9160" y="36576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35240" y="2666880"/>
            <a:ext cx="42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tomo de carbono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carga positiva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(electrófi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1160" y="5486400"/>
            <a:ext cx="7357320" cy="825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compuestos que tienen oxígeno, nitrógeno y azuf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n nucleófi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l agua experimenta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o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600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0128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39360" y="205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30080" y="2971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725360" y="3962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7480" y="2819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73280" y="3962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154360" y="3581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44880" y="3581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15480" y="2819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15680" y="2819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8748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09480" y="320004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95280" y="320040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666880" y="2514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95480" y="304812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380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9144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193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2247840"/>
            <a:ext cx="914400" cy="495360"/>
          </a:xfrm>
          <a:custGeom>
            <a:avLst/>
            <a:gdLst/>
            <a:ahLst/>
            <a:rect l="l" t="t" r="r" b="b"/>
            <a:pathLst>
              <a:path w="576" h="312">
                <a:moveTo>
                  <a:pt x="0" y="312"/>
                </a:moveTo>
                <a:cubicBezTo>
                  <a:pt x="0" y="264"/>
                  <a:pt x="0" y="216"/>
                  <a:pt x="48" y="168"/>
                </a:cubicBezTo>
                <a:cubicBezTo>
                  <a:pt x="96" y="120"/>
                  <a:pt x="200" y="48"/>
                  <a:pt x="288" y="24"/>
                </a:cubicBezTo>
                <a:cubicBezTo>
                  <a:pt x="376" y="0"/>
                  <a:pt x="528" y="24"/>
                  <a:pt x="576" y="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43200" y="26416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6"/>
                </a:moveTo>
                <a:cubicBezTo>
                  <a:pt x="40" y="8"/>
                  <a:pt x="80" y="0"/>
                  <a:pt x="96" y="16"/>
                </a:cubicBezTo>
                <a:cubicBezTo>
                  <a:pt x="112" y="32"/>
                  <a:pt x="96" y="96"/>
                  <a:pt x="96" y="11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1500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18148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64520" y="39625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92468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92600" y="33526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31200" y="3429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09880" y="35812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71080" y="5410080"/>
            <a:ext cx="712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     +        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                         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+         O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962520" y="55627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62520" y="57150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87520" y="6137280"/>
            <a:ext cx="36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Hidroni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idrox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onización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del agua se puede analizar en forma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uantit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1840" y="1676520"/>
            <a:ext cx="369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                    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+ O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1828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19810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2080" y="25560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Keq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3880" y="28195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532160" y="2286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90320" y="228600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O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87560" y="2895480"/>
            <a:ext cx="94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95640" y="2289240"/>
            <a:ext cx="167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] = 55,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13680" y="2666880"/>
            <a:ext cx="222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 litro [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]= 100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90360" y="3124080"/>
            <a:ext cx="204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M [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] = 18,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504400" y="167652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Keq = 1 x 10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16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9440" y="3927600"/>
            <a:ext cx="16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5,5 Keq =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37080" y="3886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59880" y="3886200"/>
            <a:ext cx="30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O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 = 1 x 10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K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9440" y="47656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Kw =  [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1 x 10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14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 = 1 x 10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M          Solución neu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50292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429000" y="5105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3920" y="4952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733920" y="510516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4480" y="50292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24480" y="5105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9400" y="4952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6629400" y="510516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04560" y="5527800"/>
            <a:ext cx="633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 [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 &gt; 1 x 10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Solución es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á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 [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 &lt; 1 x 10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Solución es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básica o alca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scala de pH proporciona una medida de la acidez y la bas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0360" y="20574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H = -log [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9480" y="32004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381880" y="32004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9568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9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76720" y="3394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062920" y="339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4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82880" y="2590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21000" y="25909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948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14560" y="58323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Cl 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35160" y="369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065600" y="373392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enido Gás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46680" y="40798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724280" y="4724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343760" y="47242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352680" y="54100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71440" y="5451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33040" y="446076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oníaco 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38188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531200" y="58323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OH 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constantes de disociación ácida de los ácidos se determinan por tit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9040" y="1676520"/>
            <a:ext cx="568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COOH                   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COO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+   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25520" y="1863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25520" y="201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9440" y="255600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Ka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43000" y="2819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78080" y="2971800"/>
            <a:ext cx="193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COOH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61000" y="2286000"/>
            <a:ext cx="2379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COO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 [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3480" y="373392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Ka = -log Ka = -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71440" y="25560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92800" y="2327400"/>
            <a:ext cx="12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 [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725360" y="29718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76720" y="4038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273480" y="3546360"/>
            <a:ext cx="12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 [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582360" y="40384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7880" y="449568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log Ka + 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73240" y="4759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155680" y="4302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150640" y="48355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54960" y="44956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- log [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0880" y="5486400"/>
            <a:ext cx="35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Ka + log                  = 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20960" y="58262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03400" y="536904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06200" y="5867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672440" y="5943600"/>
            <a:ext cx="412020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H = pKa  cuando [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] = 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soluciones amortiguadoras resisten los cambios de 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71680" y="194004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973480" y="3083040"/>
            <a:ext cx="105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199560" y="4226040"/>
            <a:ext cx="165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u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195960" y="5369040"/>
            <a:ext cx="178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gase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40320" y="254952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92960" y="254952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40320" y="3616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92960" y="361620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81040" y="3768840"/>
            <a:ext cx="74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5920" y="3616200"/>
            <a:ext cx="74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06320" y="247320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s-ES_tradnl" sz="2400" spc="-1" strike="noStrike" baseline="30000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40880" y="270180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(O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5730480" y="384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492960" y="3997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492960" y="293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730480" y="270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340320" y="4759200"/>
            <a:ext cx="0" cy="533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92960" y="475920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544880" y="213372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K = 6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07160" y="3235320"/>
            <a:ext cx="152280" cy="2286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59440" y="4378320"/>
            <a:ext cx="152280" cy="2286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550360" y="2854440"/>
            <a:ext cx="152280" cy="2286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102440" y="2016000"/>
            <a:ext cx="152280" cy="2286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45040" y="2549520"/>
            <a:ext cx="152280" cy="2286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10778400">
            <a:off x="8016840" y="5442840"/>
            <a:ext cx="533520" cy="228600"/>
          </a:xfrm>
          <a:custGeom>
            <a:avLst/>
            <a:gdLst>
              <a:gd name="textAreaLeft" fmla="*/ 93240 w 533520"/>
              <a:gd name="textAreaRight" fmla="*/ 387000 w 5335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10200000">
            <a:off x="5654520" y="5520960"/>
            <a:ext cx="533520" cy="228600"/>
          </a:xfrm>
          <a:custGeom>
            <a:avLst/>
            <a:gdLst>
              <a:gd name="textAreaLeft" fmla="*/ 93240 w 533520"/>
              <a:gd name="textAreaRight" fmla="*/ 387000 w 5335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864560" y="4378320"/>
            <a:ext cx="152280" cy="2286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73640" y="5369040"/>
            <a:ext cx="3657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54520" y="61722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m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8280" y="2666880"/>
            <a:ext cx="37299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 mL HCl 10M (pH 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00 mL 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mbia pH  de 7,0 a 2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00 mL Plasma sanguí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mbia pH de 7,4 a 7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soluciones acuosas pueden desarrollar presiones osmó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543800" y="4876920"/>
            <a:ext cx="533520" cy="533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105520" y="4876920"/>
            <a:ext cx="6858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14600" y="4648320"/>
            <a:ext cx="106668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6840" y="5867280"/>
            <a:ext cx="77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ón     hipotónica               isotónica                hipertó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24280" y="4267080"/>
            <a:ext cx="1371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62320" y="4267080"/>
            <a:ext cx="1371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086600" y="4267080"/>
            <a:ext cx="1371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95480" y="44197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696080" y="46483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19051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71600" y="1905120"/>
            <a:ext cx="1371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23880" y="2133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600200" y="2514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002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382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21520" y="380988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Cl 0,154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7524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6765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3480" y="335268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mbrana semiperme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629400" y="19051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867280" y="1905120"/>
            <a:ext cx="1371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21337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858000" y="2514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34320" y="2743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9343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2485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17220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90920" y="28954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781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28800" y="25909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5400000">
            <a:off x="3390480" y="2247840"/>
            <a:ext cx="1371600" cy="6858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505320" y="1905120"/>
            <a:ext cx="1371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657600" y="2133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733920" y="2514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733920" y="28195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57200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72000" y="2209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0988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242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2590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mponentes de la Célula: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gua</a:t>
            </a:r>
            <a:br>
              <a:rPr sz="32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Constituye del 60 al 90% de la cél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molécula de agua es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molécula de agua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forma puentes de hidróg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moléculas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iónicas y polares se disuelven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con facilidad en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moléculas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no polares son insolubles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en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interacciones no covalentes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son importantes en las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agua es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nucleofí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agua experimenta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io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escala de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H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proporciona una medida de la acidez y bas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constantes de disociación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ácidas de los ácidos se determinan por tit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soluciones amortiguadas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resisten los cambios de 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soluciones acuosas pueden desarrollar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resiones osmóticas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molécula de agua es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886200"/>
            <a:ext cx="1143000" cy="1143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505320"/>
            <a:ext cx="76212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3962520"/>
            <a:ext cx="76212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71440" y="255600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680" y="21337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      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343400" y="251424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25146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952880"/>
            <a:ext cx="533520" cy="5335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8735000">
            <a:off x="5829120" y="4762800"/>
            <a:ext cx="457200" cy="9903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1047200">
            <a:off x="5484240" y="3963960"/>
            <a:ext cx="533160" cy="9907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131200">
            <a:off x="4878360" y="4494240"/>
            <a:ext cx="533520" cy="9907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4800600"/>
            <a:ext cx="533520" cy="5335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5410080"/>
            <a:ext cx="533160" cy="5335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5334120"/>
            <a:ext cx="533520" cy="5331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563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5562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5638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563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3733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4876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33526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47242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89600" y="54100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32800" y="54864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84880" y="58672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70680" y="35812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2133720"/>
            <a:ext cx="5331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20574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72400" y="3352680"/>
            <a:ext cx="8380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6104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6104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773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296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15328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40640" y="3886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4,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molécula de agua es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5480" y="3276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9360" y="3276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7600" y="2286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294920" y="2743200"/>
            <a:ext cx="38124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743200"/>
            <a:ext cx="4572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2560" y="396252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73200" y="396252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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82480" y="16765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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7480" y="33526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1360" y="33526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9600" y="23623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866920" y="2819520"/>
            <a:ext cx="38124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19520"/>
            <a:ext cx="4572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25909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066320" y="2590920"/>
            <a:ext cx="38124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362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362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20574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2800" y="46483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laridades de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9760" y="45720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polo 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moléculas de agua forman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uentes de hidró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3657600"/>
            <a:ext cx="106704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3657600"/>
            <a:ext cx="106668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39625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5909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51055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4191120"/>
            <a:ext cx="106668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3021600">
            <a:off x="1409400" y="3467160"/>
            <a:ext cx="91440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8942600">
            <a:off x="1142640" y="4800240"/>
            <a:ext cx="106668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803000">
            <a:off x="6438600" y="3085920"/>
            <a:ext cx="106668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267080"/>
            <a:ext cx="167616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5680" y="487692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uente de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7800" y="38354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4880" y="38354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916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35400" y="205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1680" y="4038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4080" y="2666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7120" y="3048120"/>
            <a:ext cx="5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17720" y="3581280"/>
            <a:ext cx="5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50840" y="3352680"/>
            <a:ext cx="6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6840" y="1371600"/>
            <a:ext cx="6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8320" y="2057400"/>
            <a:ext cx="6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40600" y="5791320"/>
            <a:ext cx="6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da molécula de agua puede formar hasta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uatro puentes de hidró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581280"/>
            <a:ext cx="1752840" cy="1447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358128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76560" y="44956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047760" y="464832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4648320"/>
            <a:ext cx="1066680" cy="53316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962520" y="35053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495680"/>
            <a:ext cx="121896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7960" y="4952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5000" y="3124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0" y="4267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6600" y="4952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4495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21000" y="4267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4648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21000" y="4952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53341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748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181480" y="5943240"/>
            <a:ext cx="3812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1680" y="5943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6880" y="5715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5943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2680" y="5715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6095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268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752480" y="5334120"/>
            <a:ext cx="914400" cy="45720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8680" y="167652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92920" y="1254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      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130640" y="163476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21160" y="163512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2133720"/>
            <a:ext cx="0" cy="83808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5000" y="4267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36576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581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Moléculas iónicas y polares se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disuelven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 facilidad en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13372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3809880"/>
            <a:ext cx="533160" cy="533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525780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388620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327672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297180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243828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190512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571500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518148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457200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373392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312408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315200" y="487692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220968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2438280"/>
            <a:ext cx="533520" cy="533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1905120"/>
            <a:ext cx="533160" cy="533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5029200"/>
            <a:ext cx="533160" cy="533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5410080"/>
            <a:ext cx="533520" cy="533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4419720"/>
            <a:ext cx="533520" cy="533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886200"/>
            <a:ext cx="533160" cy="533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3276720"/>
            <a:ext cx="533520" cy="533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4876920"/>
            <a:ext cx="533520" cy="533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5257800"/>
            <a:ext cx="533160" cy="533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2133720"/>
            <a:ext cx="533160" cy="533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38680" y="2514600"/>
            <a:ext cx="533520" cy="533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3733920"/>
            <a:ext cx="533160" cy="533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143000" y="205704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251460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411480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990720" y="358092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066680" y="51811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556272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21337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2209680"/>
            <a:ext cx="12956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2666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27432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981080" y="297180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37339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320" y="419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666880" y="5028840"/>
            <a:ext cx="198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5410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434340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579132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0" y="56386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72000" y="563868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952880" y="502920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4800600"/>
            <a:ext cx="1218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648320" y="426672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553080" y="54100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5181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012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23623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72200" y="2666880"/>
            <a:ext cx="10666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09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72000" y="22860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2819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114800" y="2895120"/>
            <a:ext cx="1600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495320" y="2590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2971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3581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34290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4419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4960" y="2209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5680" y="3809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95320" y="598500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istal de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365760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moléculas iónicas y polares se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disuelven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 facilidad en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3429000"/>
            <a:ext cx="106668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2971800"/>
            <a:ext cx="1828800" cy="1905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04160" y="365760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86240" y="373392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7080" y="4876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1800" y="2666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82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0760" y="2666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2880" y="3352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8280" y="4038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1800" y="4724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4280" y="4038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7080" y="4267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3400" y="3200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1800" y="3276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1800" y="4114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3124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38080" y="350496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19320" y="4495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42670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3048120"/>
            <a:ext cx="76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3505320"/>
            <a:ext cx="22860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590920" y="42670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4648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4880" y="4114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11360" y="4876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44880" y="4724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72400" y="4572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391520" y="49528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11360" y="2514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44880" y="3200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44880" y="2590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772400" y="2971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91520" y="274320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2536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2560" y="2666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2536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029200" y="28954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3276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1680" y="4267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63800" y="4952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3960" y="4800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9200" y="4648320"/>
            <a:ext cx="76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5105520"/>
            <a:ext cx="22860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06600" y="1371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68360" y="205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58880" y="1905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4120" y="1752480"/>
            <a:ext cx="75960" cy="228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38680" y="2209680"/>
            <a:ext cx="228600" cy="76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72880" y="5943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00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72880" y="5334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276720" y="5333760"/>
            <a:ext cx="152280" cy="152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5715000"/>
            <a:ext cx="0" cy="228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90920" y="5257800"/>
            <a:ext cx="380880" cy="22860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2286000"/>
            <a:ext cx="0" cy="38088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4038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moléculas iónicas y polares se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disuelven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 facilidad en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2148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3588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3124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2438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2438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14600" y="3124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31240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656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600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44080" y="1905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44080" y="3962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58480" y="3962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8480" y="1905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7800" y="2286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200400" y="274284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1716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4952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67280" y="4267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6728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4952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01680" y="4724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39760" y="3733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39760" y="5791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3156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4596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86600" y="4952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96080" y="4267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9608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924680" y="4952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68560" y="5791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68560" y="3733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459280" y="4724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30480" y="3962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4419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4419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20760" y="48006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t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74000" y="5943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4160" y="220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39960" y="1752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934320" y="2057040"/>
            <a:ext cx="228600" cy="228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4160" y="2971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81680" y="266688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81680" y="3429000"/>
            <a:ext cx="0" cy="60948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87280" y="3962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77800" y="3657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87280" y="4724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14800" y="4419720"/>
            <a:ext cx="0" cy="304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3962520"/>
            <a:ext cx="304920" cy="152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3352680"/>
            <a:ext cx="228600" cy="38124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43:54Z</dcterms:created>
  <dc:creator>Luz María Perez</dc:creator>
  <dc:description/>
  <dc:language>en-US</dc:language>
  <cp:lastModifiedBy>Luz María Perez</cp:lastModifiedBy>
  <dcterms:modified xsi:type="dcterms:W3CDTF">2001-03-23T13:44:02Z</dcterms:modified>
  <cp:revision>37</cp:revision>
  <dc:subject/>
  <dc:title>Componentes de la Célula</dc:title>
</cp:coreProperties>
</file>